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gif" ContentType="image/gif"/>
  <Override PartName="/ppt/media/image3.gif" ContentType="image/gif"/>
  <Override PartName="/ppt/media/image7.png" ContentType="image/png"/>
  <Override PartName="/ppt/media/APPLAUSE.WAV" ContentType="audio/x-wav"/>
  <Override PartName="/ppt/media/image4.gif" ContentType="image/gif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235080"/>
            <a:ext cx="8458200" cy="633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cc"/>
                </a:solidFill>
                <a:latin typeface="AbcBulletin"/>
              </a:rPr>
              <a:t>Guess the Covered Word</a:t>
            </a:r>
            <a:endParaRPr b="0" lang="en-US" sz="72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44792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Spelling Words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Week 22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4572000"/>
            <a:ext cx="7848720" cy="13129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AbcPrint"/>
              </a:rPr>
              <a:t>The little girl does not </a:t>
            </a:r>
            <a:r>
              <a:rPr b="0" lang="en-US" sz="4000" spc="-1" strike="noStrike">
                <a:solidFill>
                  <a:srgbClr val="ff0000"/>
                </a:solidFill>
                <a:latin typeface="AbcPrint"/>
              </a:rPr>
              <a:t>know</a:t>
            </a:r>
            <a:r>
              <a:rPr b="0" lang="en-US" sz="4000" spc="-1" strike="noStrike">
                <a:solidFill>
                  <a:srgbClr val="9900cc"/>
                </a:solidFill>
                <a:latin typeface="AbcPrint"/>
              </a:rPr>
              <a:t> which way to 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434340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43000" y="4724280"/>
            <a:ext cx="693432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Most</a:t>
            </a:r>
            <a:r>
              <a:rPr b="0" lang="en-US" sz="4400" spc="-1" strike="noStrike">
                <a:solidFill>
                  <a:srgbClr val="9900cc"/>
                </a:solidFill>
                <a:latin typeface="AbcPrint"/>
              </a:rPr>
              <a:t> of the flowers are pur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4724280"/>
            <a:ext cx="16765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510516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4724280"/>
            <a:ext cx="693432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Most</a:t>
            </a:r>
            <a:r>
              <a:rPr b="0" lang="en-US" sz="4400" spc="-1" strike="noStrike">
                <a:solidFill>
                  <a:srgbClr val="9900cc"/>
                </a:solidFill>
                <a:latin typeface="AbcPrint"/>
              </a:rPr>
              <a:t> of the flowers are pur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510516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838080" y="762120"/>
            <a:ext cx="6858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ook at th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ords quickly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n we wil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pell the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gether b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hanting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09680" y="23623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bcPrint"/>
              </a:rPr>
              <a:t>call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jus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cc33"/>
                </a:solidFill>
                <a:latin typeface="AbcPrint"/>
              </a:rPr>
              <a:t>whe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33720" y="2209680"/>
            <a:ext cx="46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kn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bcPrint"/>
              </a:rPr>
              <a:t>mos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895480" y="762120"/>
            <a:ext cx="3427560" cy="3871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38080" y="48769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cPrint"/>
              </a:rPr>
              <a:t>Mickey says, “You did A-OK!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609480"/>
            <a:ext cx="693432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 Bold"/>
              </a:rPr>
              <a:t>Say the word as the arrow points to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ff0000"/>
                </a:solidFill>
                <a:latin typeface="AbcPrint"/>
              </a:rPr>
              <a:t>cal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AbcPrint"/>
              </a:rPr>
              <a:t>j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9933"/>
                </a:solidFill>
                <a:latin typeface="AbcPrint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00cc"/>
                </a:solidFill>
                <a:latin typeface="AbcPrint"/>
              </a:rPr>
              <a:t>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33"/>
                </a:solidFill>
                <a:latin typeface="AbcPrint"/>
              </a:rPr>
              <a:t>m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23623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320040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40384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8769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6386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572000"/>
            <a:ext cx="716292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The teacher </a:t>
            </a:r>
            <a:r>
              <a:rPr b="0" lang="en-US" sz="4400" spc="-1" strike="noStrike">
                <a:solidFill>
                  <a:srgbClr val="ff0000"/>
                </a:solidFill>
                <a:latin typeface="AbcPrint"/>
              </a:rPr>
              <a:t>called</a:t>
            </a: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 the kids 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572000"/>
            <a:ext cx="144756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487692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4572000"/>
            <a:ext cx="716292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The teacher </a:t>
            </a:r>
            <a:r>
              <a:rPr b="0" lang="en-US" sz="4400" spc="-1" strike="noStrike">
                <a:solidFill>
                  <a:srgbClr val="ff0000"/>
                </a:solidFill>
                <a:latin typeface="AbcPrint"/>
              </a:rPr>
              <a:t>called</a:t>
            </a: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 the kids 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487692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0720" y="4876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4800600"/>
            <a:ext cx="7696080" cy="764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The trolley 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just</a:t>
            </a: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 went b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4876920"/>
            <a:ext cx="914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90720" y="4876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4800600"/>
            <a:ext cx="7696080" cy="764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The trolley 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just</a:t>
            </a: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 went b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8080" y="4343400"/>
            <a:ext cx="7391520" cy="8251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Where</a:t>
            </a:r>
            <a:r>
              <a:rPr b="0" lang="en-US" sz="4800" spc="-1" strike="noStrike">
                <a:solidFill>
                  <a:srgbClr val="9900cc"/>
                </a:solidFill>
                <a:latin typeface="AbcPrint"/>
              </a:rPr>
              <a:t> did the pig g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4343400"/>
            <a:ext cx="20574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5715000" cy="2714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38080" y="4343400"/>
            <a:ext cx="7391520" cy="8251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Where</a:t>
            </a:r>
            <a:r>
              <a:rPr b="0" lang="en-US" sz="4800" spc="-1" strike="noStrike">
                <a:solidFill>
                  <a:srgbClr val="9900cc"/>
                </a:solidFill>
                <a:latin typeface="AbcPrint"/>
              </a:rPr>
              <a:t> did the pig g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5715000" cy="2714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4572000"/>
            <a:ext cx="7848720" cy="13129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AbcPrint"/>
              </a:rPr>
              <a:t>The little girl does not </a:t>
            </a:r>
            <a:r>
              <a:rPr b="0" lang="en-US" sz="4000" spc="-1" strike="noStrike">
                <a:solidFill>
                  <a:srgbClr val="ff0000"/>
                </a:solidFill>
                <a:latin typeface="AbcPrint"/>
              </a:rPr>
              <a:t>know</a:t>
            </a:r>
            <a:r>
              <a:rPr b="0" lang="en-US" sz="4000" spc="-1" strike="noStrike">
                <a:solidFill>
                  <a:srgbClr val="9900cc"/>
                </a:solidFill>
                <a:latin typeface="AbcPrint"/>
              </a:rPr>
              <a:t> which way to 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4572000"/>
            <a:ext cx="1143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434340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gewood User</cp:lastModifiedBy>
  <dcterms:modified xsi:type="dcterms:W3CDTF">2009-03-10T13:03:28Z</dcterms:modified>
  <cp:revision>19</cp:revision>
  <dc:subject/>
  <dc:title>Guess the Covered Word</dc:title>
</cp:coreProperties>
</file>